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07F-E590-4707-B0F5-70185B45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716-AA01-483B-9F76-7AD68AB5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4B6-67F5-4AB2-BA8D-7755E21E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28E-6E50-4F9E-A882-B2687E7C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FC32-E774-45D6-AD83-70A738C6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40DC-FBE5-4ACD-8873-9F2B1EC9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67AB-8534-49BC-8355-D7BD8E86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1568-CFB0-4D61-BAD0-B26B60FD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976F-0C34-4E4E-8AAB-B569A8CB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9BDF-2B80-4836-A554-608458C0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AE54-0DEE-445F-BCC3-EE9D98D3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69C-481B-463E-87CE-F0595079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D46B-C494-4E64-95A5-8F687E4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D477-3070-4F6C-8C9A-F8608B4B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62A5-6F0B-4442-A424-CC8CF78A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37F5-97AB-4237-9874-D1F8EB9F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2434-F290-4BD4-A89E-873AC30C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C70-41F6-4508-ACAE-7B54DFD7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75C-A641-4565-895A-A158C98A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8DB-CB04-4817-A779-8317C5D7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3AC-4ADC-4F5F-8113-352F26C6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31E-FE24-4F3E-AA08-B44092F7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C99-B2D2-4F78-8E4C-B8CEC9DF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568-7094-40A3-8188-6CA323E1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DCBC-BDCA-4427-B6F1-E44BC3E1E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9560-3624-4EDE-AA36-B26470FAF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&amp;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son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.A.B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-do the questions in N.A.B 1 that you ne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ue in on Friday 27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Nov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.A.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l you know abo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odel perfo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ages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ontent Of les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ead through your own N.A.B answers and any feedback I have given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dentify questions that need to be rep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Go over N.A.B questions and what is expected in your ans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udy for next N.A.B on model performers and stages of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Question a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e the methods you used to identify your performance strengths and weaknesses. 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bservation sche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ideo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Knowledge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servation schedu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ive an ex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o filled it ou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ere you playing a g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as it in the form of a t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id it have head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id it have set criter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raw an example of what the schedule looked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at did the observer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ive examples of the info the O recor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ideo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sed a video rec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o was able to watch your perform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does this benefit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ere you playing a g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at are you able to do when watching a video of yoursel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sed in conjunction with schedu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the info recorded accur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Question b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why these methods are appropriate. 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ermanent record – how does having a permanent record benefit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pare to a model performer (give examp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alid and reliable ( see work bookl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ort specif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Question c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 result of analysing your data give a detailed explanation of your strengths and weakn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Gain general (whole performance) and specific (skill/ technique) strengths and weakn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onsideration of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at strengths did you identify and how did this affect your whole game performance? EXAMPLES!!!!!!!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eat for weakn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eat this for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ovement analysi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cusing on one specific skill –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Overhead Clear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Question 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 a result of analysing your data give a detailed explanation of your development needs. 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ain weakness – Name skill (overhead clear). Your development needs are within this i.e. what are your weaknesses within the overhead cl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VEMENT ANALYSIS SCHED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at are you not doing well and how is it affecting your overhead cl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43:45Z</dcterms:created>
  <dc:creator>DooganS</dc:creator>
  <dc:description/>
  <dc:language>en-US</dc:language>
  <cp:lastModifiedBy>DooganS</cp:lastModifiedBy>
  <dcterms:modified xsi:type="dcterms:W3CDTF">2009-11-23T18:42:22Z</dcterms:modified>
  <cp:revision>11</cp:revision>
  <dc:subject/>
  <dc:title>Skills &amp; Techniques</dc:title>
</cp:coreProperties>
</file>